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76545999"/>
        <c:axId val="23611760"/>
      </c:scatterChart>
      <c:valAx>
        <c:axId val="76545999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652304180339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3611760"/>
        <c:crossesAt val="0"/>
        <c:crossBetween val="midCat"/>
      </c:valAx>
      <c:valAx>
        <c:axId val="23611760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56455985161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6545999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8BA-FC09-4862-851B-D9265CF1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393-BCA8-4F81-8966-5568599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19A-ED09-400E-B338-43FB1EE0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1D3-A875-4677-A77E-13896271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50C-1F5E-4938-8C61-E333AEA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38F-BD7F-40FA-9293-D059876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082-FDDD-43D6-9ED9-1EB76B40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AE1-506C-4EE3-9217-ABA8F112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945-BD9D-46ED-973D-DC094A6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052-B85C-4F37-8026-5E0995D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AC7-6E1A-46F7-BC4C-6B897D5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970-FFA7-440D-AE2B-53336AC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9B9E2-7DDB-49D9-AF52-C9CA5D4761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.water.usgs.gov/iceout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32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aim or Question: Is Maine's Climate Changing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75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me.water.usgs.gov/iceout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1/1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47120" y="10666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yne &amp; Mich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55260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94800" y="232740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gle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040" y="2327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ulian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38720" y="528012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53352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ata seem to show that there is a trend toward earlier ice-out 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trend caused by warmer winter temperatures (thinner ice) or earlier warm temper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3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304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lly Schauffler</dc:creator>
  <dc:description/>
  <dc:language>en-US</dc:language>
  <cp:lastModifiedBy>Annette Brickley</cp:lastModifiedBy>
  <cp:revision>0</cp:revision>
  <dc:subject/>
  <dc:title>PowerPoint Presentation</dc:title>
</cp:coreProperties>
</file>